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966-C121-4AAA-B707-9EA9BCCC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508-4BDA-48D6-A568-4D2896A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B8F-0669-40B6-8AE3-3F76DB33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FC4-CA69-4943-9EA7-255E1C37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D6E2-451C-4585-8F08-E8AA8F83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AFE9-3233-40B3-A46D-E759D80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5A4-06B6-4F9D-971E-CDE76C91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833-51E9-41A2-8D2B-4B6BD0EA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5673-3F66-4AAA-87B1-A98E979E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C6A7-8C12-41B1-8465-2CB2D8C8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DC79-BBA4-4C79-BF6F-E894A70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048-B94E-4DAC-94DC-DAA3765F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45A-6777-47F5-9177-6329BF5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07C0-101D-4C18-BC48-917467D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989-FD34-4C2C-B754-2B598A30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46A-E79B-4014-BA74-FA62B2E2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DBB-A00A-462C-ACC4-7B52FA4E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8D8-A73E-4C4A-86A0-8A09069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BAB-285D-48A3-B18A-9CCEE0E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EC9-3576-4A39-848D-4D62A72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F81-5BD7-402E-B13A-FD8A9BA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7D0-5A4F-4CD9-80CE-40BC812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D0B-4423-416D-85DB-43690FA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9AF-8AB4-4B28-8A80-717321A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4B23-1206-498D-8DEA-7DF5409A6200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D553-5E05-4A94-8CE9-5DE80BBA1220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cd882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29Z</dcterms:modified>
  <cp:revision>46</cp:revision>
  <dc:subject/>
  <dc:title>幻灯片 1</dc:title>
</cp:coreProperties>
</file>